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18CB-9099-4757-AF0C-9C129182825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BC7-23FB-40BE-82B3-E43AF278E889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83D5-C193-4232-B7DB-42DC6BE37E3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7A3F-7937-47EB-B71A-986D7CB4BA7E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0FF8-818E-47AE-A90D-FD24DBA3949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ABE-5EC8-4F55-B3B6-13A35518A3A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D1DD-EC55-43D5-80FD-01CD0FD3615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25F9-983B-4412-810C-8001210F4BF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20C1-2544-4E6B-A82E-BBD13451C07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A02-26BA-4B33-9D6B-EF4E9185ED0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DBD-0CF7-4F56-A15C-5A3B6D2CC11E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9AB-7933-4185-9E53-4031DE428E1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8BF-B6E0-4C45-82CC-6E453CD3855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EC0B-2654-4DDC-B3C3-2672C28203F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1287-61F9-40E5-858D-B8BA04E8BD2A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A37-B623-4219-8840-07AC0D540D0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C65-4DAA-4386-AEE0-C78F92CF028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6C9A-6D76-41B6-AC16-D658FD4807E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3C3F-5D7E-4E53-82B7-B26D42D4B4BA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A418-B53F-4A87-B435-BEFB7528501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26E-D789-4B00-827F-FB90D8145E4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841-CA46-470F-AFF7-ABA4040D188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E42-DE8B-48BE-8B00-397C686E577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4F7-F121-4BC7-AB2D-3A950AEF333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88D-B859-4805-9DE7-F0895A64A9B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5808-AEA7-4A7C-8315-B369213628DB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D23-A834-4B08-AEE4-8FA90FA15EF5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B947-EEF1-42CB-AAF0-57BE39821A69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95B-D16F-49A7-8A6E-C1E3E16DBD12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AAC-F9F6-4E7C-A7F0-11584475D1AD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D1FB-7FFA-4990-AA99-404BAC4867E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4D6F-198E-455A-957A-60CD0EDAE26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DB98-BA7D-4E32-9041-98298659D728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A0B6-30C7-446F-B81A-161F7B4905B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6ED-6184-44B8-825B-F2ED23F1325C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D30F-9562-4E1D-BD92-84ACCD109340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E4D-05F4-4866-890F-4998A2BC31D7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78DB-7F2C-4953-89D2-B852795E7DB9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CC1E-F861-4145-9844-660FA7D90674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7BB9-999F-47C2-AE36-B967B213F094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F7EC-5985-465D-BFE6-F7B969540C1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E1BE-2144-45C7-B1A9-A236072C990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208-2150-409C-B460-7EC83F1C8271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5BAA-EEB4-477C-B77B-B7FF9567A336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C667-AFA5-4426-8BB0-D6D3CEC89B8F}" type="slidenum">
              <a:rPr b="0" lang="en-P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F6D-C4C1-49F5-A78F-326BB327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AA3-4E9F-4EE9-919D-E4A3EAB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6F2-5434-4632-96A0-DEF085B3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016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2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016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2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C68-C8F6-4C04-86B5-C8633015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DE58-B5DE-4AF3-970D-92D5762B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94E7-6D96-4507-882C-83AF5C9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918D-4794-4016-9CF7-E594D3B1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ED0F-AC8F-4C2F-8C3B-9AD4A7A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2216-2EC3-4793-9246-B1A4EB1A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5954-DF2E-4158-84DE-B054BAA2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B20-B83F-473D-80C8-A135A59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A0D-36AF-4BB5-B5ED-58C05FC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8F7-8A34-466B-A23C-E99A3713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E28B-9864-4DAB-BC84-B9B5DE4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0DC4-A595-4F5E-9429-643D38DA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989E-C19A-4C42-925A-10E59B9D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016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240" y="18284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016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240" y="40971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26D-B138-4FC3-B1E6-6D4BCA69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101-6AE0-4528-8DBC-F8DC951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1D0-DA32-4B78-A2AA-3CD06052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D9C-E7A9-4B70-A7CF-7953FD6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A1A-5422-4C65-83EB-1DB9B33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87E-1EE2-4B0F-A49F-6E8E047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9000" y="40971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D7E-3344-47AB-8AFF-608546B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8284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0971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DF3-D087-4B99-937E-57A7430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AD2D-9560-4A5A-B295-077092EE1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B39-A08A-41B1-BF83-A977CB3B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ientravelguide.com/credits/corel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y Sophoc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741760" y="1754280"/>
            <a:ext cx="2896920" cy="841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TRAGEDY is a serious drama featuring a main character who strives to achieve something and is ultimately defeated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main character’s downfall is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ofte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due to an inborn character flaw or weakness –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tragic flaw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523880" y="304920"/>
            <a:ext cx="723924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- Backgroun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uring the early years of the Peloponnesian War, when Oedipus Rex was produced, Athens suffered from political instability and devastating plagu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5" descr="is?87320363864"/>
          <p:cNvPicPr/>
          <p:nvPr/>
        </p:nvPicPr>
        <p:blipFill>
          <a:blip r:embed="rId1"/>
          <a:stretch/>
        </p:blipFill>
        <p:spPr>
          <a:xfrm>
            <a:off x="0" y="1676520"/>
            <a:ext cx="160020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3880" y="304920"/>
            <a:ext cx="723924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- Background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13716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 opens his play with a situation that the people of Athens could identify with: a plague with no end in sight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5" descr="is?87320363864"/>
          <p:cNvPicPr/>
          <p:nvPr/>
        </p:nvPicPr>
        <p:blipFill>
          <a:blip r:embed="rId1"/>
          <a:stretch/>
        </p:blipFill>
        <p:spPr>
          <a:xfrm>
            <a:off x="0" y="1676520"/>
            <a:ext cx="1600200" cy="125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ancientathens"/>
          <p:cNvPicPr/>
          <p:nvPr/>
        </p:nvPicPr>
        <p:blipFill>
          <a:blip r:embed="rId1"/>
          <a:srcRect l="3489" t="0" r="1091" b="3846"/>
          <a:stretch/>
        </p:blipFill>
        <p:spPr>
          <a:xfrm>
            <a:off x="2133720" y="1066680"/>
            <a:ext cx="6400800" cy="390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768680" y="5638680"/>
            <a:ext cx="69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cient Athens –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Century B. 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ncientathens4"/>
          <p:cNvPicPr/>
          <p:nvPr/>
        </p:nvPicPr>
        <p:blipFill>
          <a:blip r:embed="rId1"/>
          <a:stretch/>
        </p:blipFill>
        <p:spPr>
          <a:xfrm>
            <a:off x="2209680" y="1281240"/>
            <a:ext cx="5924520" cy="429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city of Thebes is ravaged by plag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itizens beg King Oedipus for hel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sends his brother-in-law, Creon, to the oracle of Apollo at Delphi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on returns and announces that the plague will end when the Thebans punish the murderer of the their previous king, Laiu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tries to take the role of savior and vows to do everything in his power to apprehend the murderer and save his peop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496 – 406 B. C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playwright who lived a long, comfortable, happy lif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rew up in a wealthy family in ATHENS, GREE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-Prologu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does not realize that his vow will relentlessly lead him to an encounter with himself, his past, and his darkest secrets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AIN CHARACTER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iresias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blind prophet and servant of Apollo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veals the reasons for the devastation and plague in Theb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iresias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257480"/>
            <a:ext cx="723924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ne of the most powerful characters in the pl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ells Oedipus he will become blind and po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Jocasta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wife and mother of Oedip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tells Oedipus not to trust in the orac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tries to protect Oedipus from the awful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Jocasta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e alternately condemns and upholds the authority of the oracles as best suits the direction of the argument at the mo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tagoni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is name means “swollen-foot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inspires both pity and f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ereditary curs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has been placed on his family, and he unknowingly has fulfilled the terms of the prophecy that he would kill his father (Laius) and marry his own mother (Jocasta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en he curses the murderer of Laius he is cursing himself and predicting his own exile and consequent life of “wretchedness.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Oedip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is wise, revered by his subjects, and dedicated to the discovery of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wants to rid Thebes of the plague, but fate and the gods have other things in store for hi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 dramatic work portrayed misery and traged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 also became a distinguished public offici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rus of Theban Elder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n of Thebes who honor and respect the king and the go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ir odes reveal both a strong attachment to the king as well as grounding in religious cultu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reon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other of Lai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edipus feels threatened by Creon and believes that he covets the thr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reon defends himself saying he has no desire to be king and that Oedipus harms himself in making such accusa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essenger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ells Oedipus that King Polybos of Corinth is de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edipus learns from the messenger that Polybos was not his fa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messenger had been given Oedipus as an infant by one of Laius’ me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hepherd of Lai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eals his information only after Oedipus threatens his li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mits to receiving the infant (he gave to Polybos’ messenger) from Laius and Joca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edipus eventually realizes his own identity and his crimes of patricide and incest after hearing the shepherd’s 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econd Messenger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nounces and describes Jocasta’s suic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edicts future sorrows for a people whose kings descend from this polluted 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e Choru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horal odes bring an additional viewpoint to the pl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ffer a broader and more socio-religious perspective than those offered by individual charac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M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 for identity and trut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ature of innocence and gui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nature of mor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ferences to light and darkness to predict the fu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iest says at the beginning: "All the house of Kadmos is laid waste; all emptied, and all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arkened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Imager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promises Creon: “Then once more I must bring what is dark to light.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roduced 123 plays (only seven survive today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age of Sophocles in Greece was a time when anything seemed possible through human effort and reas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xample of Foreshadow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257480"/>
            <a:ext cx="739152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eiresias tells Oedipus that it is he who is blin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ut I say that you, with both your eyes, are blind.  You cannot see the wretchedness of your life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Rex is the story of a king of Thebes upon whom a hereditary curse is placed and who therefore has to suffer the tragic consequences of fat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uring the time of plague, fires ,and other forms of decimation, Oedipus decides to take action to restore life and prosperity to his kingdo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 discovers, through his quest for truth, that his identity is not what he though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e learns he has killed his father, married his mother, and had children with h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05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edipus’ wife/mother – Jocasta – kills herself and Oedipus blinds himself and goes into exi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reon becomes King of Theb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oward the end of Sophocles’ life, Athens raged a war against Sparta, their bitter rival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re also was a great plague in 430 B. C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’ surviving plays (written after 440 B.C.) are deeply troubli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7800" y="380880"/>
            <a:ext cx="365760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ophocle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se plays depict characters caught up in unsolvable dilemmas that test their faith in divine and human justi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1219320" y="1981080"/>
            <a:ext cx="6858000" cy="175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7120" y="39625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OEDIPUS REX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ne of the world’s greatest trage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" descr="TRAGED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60440"/>
            <a:ext cx="3505320" cy="2337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12:25Z</dcterms:created>
  <dc:creator>EM28</dc:creator>
  <dc:description/>
  <dc:language>en-US</dc:language>
  <cp:lastModifiedBy>Windows7</cp:lastModifiedBy>
  <dcterms:modified xsi:type="dcterms:W3CDTF">2012-01-21T11:59:07Z</dcterms:modified>
  <cp:revision>32</cp:revision>
  <dc:subject/>
  <dc:title>Oedipus Rex</dc:title>
</cp:coreProperties>
</file>